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829-3C4D-4595-A499-0F6AED770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8B9-DB74-47A4-975C-ED943CB069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C84E-D703-43FD-A6C1-8A221706E6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4A-1E4E-4614-B637-44E519C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0E1-C759-4339-8DFD-8234B0C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CAC-C17F-4766-BB13-FD14A1C6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5A9-6222-4A86-9691-AE44E6E5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715-E6A1-4A00-BB62-D382044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75B-0380-4FD6-9BF0-357AC21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B52-2A13-4D41-BE62-3F1E683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C47-E526-4E48-84E7-A736186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4FF-72F7-4E2C-9016-38FC28B6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379-ECD1-4AEC-A6ED-D981976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9ED-7DDE-4EB6-ADCF-F6CE692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251-4184-450B-A190-F07FE55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DD9-C4A7-496D-A0E7-9559B64CA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Impact"/>
                <a:ea typeface="Times New Roman"/>
              </a:rPr>
              <a:t>Структура расходов бюджета города Воткинска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Impact"/>
                <a:ea typeface="Times New Roman"/>
              </a:rPr>
              <a:t>исполнение за 2015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Диаграмма 3" descr=""/>
          <p:cNvPicPr/>
          <p:nvPr/>
        </p:nvPicPr>
        <p:blipFill>
          <a:blip r:embed="rId1"/>
          <a:stretch/>
        </p:blipFill>
        <p:spPr>
          <a:xfrm>
            <a:off x="0" y="858960"/>
            <a:ext cx="9117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доходов бюджета города Воткинска 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за 2015 год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с.руб</a:t>
            </a:r>
            <a:r>
              <a:rPr b="1" lang="ru-RU" sz="24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Содержимое 4"/>
          <p:cNvGraphicFramePr/>
          <p:nvPr/>
        </p:nvGraphicFramePr>
        <p:xfrm>
          <a:off x="282600" y="1536840"/>
          <a:ext cx="880740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1536840"/>
                    <a:ext cx="88074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2-17T05:22:13Z</dcterms:modified>
  <cp:revision>149</cp:revision>
  <dc:subject/>
  <dc:title>Структура расходов бюджета города Воткинска 1 квартал 2015 года</dc:title>
</cp:coreProperties>
</file>